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3.png" ContentType="image/png"/>
  <Override PartName="/ppt/media/image22.png" ContentType="image/png"/>
  <Override PartName="/ppt/media/image24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6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5.png" ContentType="image/png"/>
  <Override PartName="/ppt/media/image19.jpeg" ContentType="image/jpeg"/>
  <Override PartName="/ppt/media/image42.jpeg" ContentType="image/jpeg"/>
  <Override PartName="/ppt/media/image2.png" ContentType="image/png"/>
  <Override PartName="/ppt/media/image28.png" ContentType="image/png"/>
  <Override PartName="/ppt/media/image30.png" ContentType="image/png"/>
  <Override PartName="/ppt/media/image37.jpeg" ContentType="image/jpeg"/>
  <Override PartName="/ppt/media/image13.png" ContentType="image/png"/>
  <Override PartName="/ppt/media/image31.jpeg" ContentType="image/jpeg"/>
  <Override PartName="/ppt/media/image32.jpeg" ContentType="image/jpeg"/>
  <Override PartName="/ppt/media/image5.jpeg" ContentType="image/jpeg"/>
  <Override PartName="/ppt/media/image35.png" ContentType="image/png"/>
  <Override PartName="/ppt/media/image43.jpeg" ContentType="image/jpeg"/>
  <Override PartName="/ppt/media/image39.png" ContentType="image/png"/>
  <Override PartName="/ppt/media/image41.jpeg" ContentType="image/jpeg"/>
  <Override PartName="/ppt/media/image45.jpeg" ContentType="image/jpeg"/>
  <Override PartName="/ppt/media/image12.png" ContentType="image/png"/>
  <Override PartName="/ppt/media/image44.png" ContentType="image/png"/>
  <Override PartName="/ppt/media/image40.jpeg" ContentType="image/jpeg"/>
  <Override PartName="/ppt/media/image46.png" ContentType="image/png"/>
  <Override PartName="/ppt/media/image9.jpeg" ContentType="image/jpeg"/>
  <Override PartName="/ppt/media/image11.png" ContentType="image/png"/>
  <Override PartName="/ppt/media/image47.png" ContentType="image/png"/>
  <Override PartName="/ppt/media/image10.png" ContentType="image/png"/>
  <Override PartName="/ppt/media/image27.jpeg" ContentType="image/jpeg"/>
  <Override PartName="/ppt/media/image7.png" ContentType="image/png"/>
  <Override PartName="/ppt/media/image8.jpeg" ContentType="image/jpeg"/>
  <Override PartName="/ppt/media/image38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89BF4-4AFA-4E94-9E98-FF3EC8FA28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C0811-6D17-4ACA-9E99-785BA65CCE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55A0C-CD0C-46B7-B661-FF6352F4ED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06F8-A100-4DF4-89DE-E34491479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EDB0-0AED-4A9C-AF08-37CF75B0F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7A6B-6107-4C7D-8D7C-9F81197AE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D259-E89A-4293-845A-399B405B2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8A400-6A57-4D0E-8E9F-C7BCF3E70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0786D-DB69-4E82-9088-3473281B0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AF626-23BF-492A-A88D-201F64777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0FDA6-31E3-4DFD-8FF2-611493981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D6D37-D3E5-43A4-B442-36BEBC6D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46E58-F447-4EB1-9DEE-1C497581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71FD1-64B2-451E-9222-056D0A0E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B196-5C03-4CBB-8148-2EB90858F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B49B0-350D-48B2-A727-3FB4C0E1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5208A-DD3E-4160-8133-EDCF3417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426E8-0E18-42BB-9B00-EB85D0335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DFAA7-B0AC-4C92-B4F9-31D1818EE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0ED84-6940-46CA-9CD3-CB380C588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FEF9D-32C2-4B45-B660-64A3A112A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B579B-37A7-4030-8898-6DF874519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03F78-2D9A-4839-AEBB-37127263C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90BDF-3A0F-4F9E-B79E-29EA27366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F75B6-3DFA-4D47-9035-36F8AAFA0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F107-763D-4DBF-A59C-35478796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15881-0B58-4778-8BCD-E19EE4BE8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631C6-D4B6-41B2-874E-0AC8B6F8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253B4-6F38-4E30-9905-E598829E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B0660-2D23-4A6E-BC5B-EAA3D51E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1845A-27C7-4D0B-A259-3F78C774B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5B473-B3E3-48C8-A7A4-AE9D25B1A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F5272-570C-4652-BF21-394C3D44C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D6203-94E4-4175-8278-8142AD08B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466D2-7CC3-4B54-98DF-2824B0B16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C7C05-FF65-4A99-91CA-193BCD7E5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670A-B78E-4477-833E-B436B998B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4E93A-6091-4CF5-ABD3-106C8076F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62839-6B04-4DA3-86A1-6CD23838E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0A963-2E1C-4F6B-9DBB-7D8C2DB0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8D6EF-1D0A-4B12-B12A-C30016D8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D4D68-3DF9-4FEE-ADE8-6F2F17B4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569EE-5349-48D1-B1D4-AA70DE01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8CDA4-40F1-490B-9025-0BA43EA28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3D7EB-9CD6-448E-BCDD-24B064268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A1AAF-60FD-46CE-A2FA-E08C30C09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80545-2B6D-4EFF-89F7-152E4F1A3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6BDE-CE75-46C8-AFCA-742883C7C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0BFD7-0D74-4EC8-A7BB-CF24636B1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5DDC2-E130-40A8-A170-14F70208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15128-4FEC-4534-9091-891105814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33470-C5E4-4294-9BB6-731EF17B9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98DEA-87BD-427D-BF87-F6DBBC236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9D7B2-1ADE-4E55-97CA-F5857261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DAF5D-6A98-4196-A51A-334B24E6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7A390-3753-4C3A-A026-A84DDB34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8C513-6F9E-4EC7-98C6-4CB29240E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7CA16-FC74-4F00-9B64-4F37D400B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A9C4-0172-40E4-99DC-0D01D2AB2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38147-BD92-4BFE-BDB6-89A944353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58938-70B6-4F17-8FA5-3AF293199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A54D9-EBB7-4154-A17D-65C4DFD66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ADDB3-0804-461D-8864-193615B2A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26D51-0F29-4901-9905-032F35AF7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243F0-DC45-411F-ABF9-F6D029A83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581DF1-0EA3-4896-B1FA-0D7949EB9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E9447-DC8A-40F5-A90C-EABD3BAF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7EB5A-9082-43DF-9F7C-DCD7A69F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44E9F-3ACB-4A50-80AB-38B956B9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2F75-118F-4C3B-AF2B-3804CF38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136F8E-3AFA-4497-80DE-CC53C1D0A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32D35-D6FA-4EA4-B443-A23D5FE32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C9F33-CDDC-492A-B416-1C39A4AC6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C466-43F8-469D-9D41-8588E34D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CCA9-7904-4386-BEDD-DAA3BC4A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3DCB0-1529-468F-AE20-AC25F8A39216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F9F5D-1A55-49EB-940D-5D577E494B1C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9D613-DD05-489E-82EB-66CB0A2E096E}" type="datetime">
              <a:rPr b="0" lang="en-US" sz="1200" spc="-1" strike="noStrike">
                <a:solidFill>
                  <a:srgbClr val="ffffff"/>
                </a:solidFill>
                <a:latin typeface="Corbel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C645A-D5E6-4E52-B745-07AFB5700C33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574A5-7901-4169-B8AA-C0B7CF000847}" type="datetime">
              <a:rPr b="0" lang="en-US" sz="1200" spc="-1" strike="noStrike">
                <a:solidFill>
                  <a:srgbClr val="ffffff"/>
                </a:solidFill>
                <a:latin typeface="Corbel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F7AAE-84F9-40F2-A300-498D91CC3132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EAE1B-32EA-498D-9D44-C280B1252EE0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51C53-8CA3-40BC-A135-6C9A2FA0D480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0BC57-48C4-47FF-A922-3E200FB470A0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B6561-C4BD-4AE0-A215-2F61346FF104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4FB7D-9B85-496B-926F-E1B0A4E3BF1D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87297-A876-47F0-BF2A-6102E57A6525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hyperlink" Target="http://upload.wikimedia.org/wikipedia/commons/1/1b/Archaeopteryx_lithographica_%28Cast_of_London_Specimen%29.jpg" TargetMode="External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hyperlink" Target="http://images.google.com/imgres?imgurl=http://student.physics.upenn.edu/~aebrown/biocurious/insect-dorsal.jpg&amp;imgrefurl=http://biocurious.com/2006/07/30/amateur-entymology-insect-wing-nanostructure&amp;usg=__TIyMPXqShIeR09DpZW4pyJOXc-M=&amp;h=588&amp;w=771&amp;sz=35&amp;hl=en&amp;start=7&amp;itbs=1&amp;tbnid=7pROm5ONABAykM:&amp;tbnh=108&amp;tbnw=142&amp;prev=/images%3Fq%3Dinsect%2Bwing%26hl%3Den%26gbv%3D2%26tbs%3Disch:1" TargetMode="External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hyperlink" Target="http://images.google.com/imgres?imgurl=http://www.canids.org/gallery/Popup19385.jpg&amp;imgrefurl=http://www.canids.org/species/Vulpes_macrotis.htm&amp;usg=__m-Cp2xntBp-PVzIEk0CDaVkwcfQ=&amp;h=417&amp;w=600&amp;sz=29&amp;hl=en&amp;start=1&amp;itbs=1&amp;tbnid=-Ssoyr7txtmo1M:&amp;tbnh=94&amp;tbnw=135&amp;prev=/images%3Fq%3Dkit%2Bfox%26hl%3Den%26sa%3DG%26gbv%3D2%26tbs%3Disch:1" TargetMode="External"/><Relationship Id="rId3" Type="http://schemas.openxmlformats.org/officeDocument/2006/relationships/image" Target="../media/image40.jpeg"/><Relationship Id="rId4" Type="http://schemas.openxmlformats.org/officeDocument/2006/relationships/hyperlink" Target="http://images.google.com/imgres?imgurl=http://briefwit.files.wordpress.com/2009/04/red-fox.jpg&amp;imgrefurl=http://brief-wit.com/2009/04/&amp;usg=__hMu9T3BaJDutHRhbBpTkK2bGES8=&amp;h=2334&amp;w=3000&amp;sz=1831&amp;hl=en&amp;start=11&amp;itbs=1&amp;tbnid=EO7kl49DZnYcTM:&amp;tbnh=117&amp;tbnw=150&amp;prev=/images%3Fq%3Dred%2Bfox%26hl%3Den%26gbv%3D2%26tbs%3Disch:1" TargetMode="External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image" Target="../media/image43.jpe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images.google.com/imgres?imgurl=http://www.sciencemuseum.org.uk/on-line/lifecycle/images/1-2-3-1-5-0-0-0-0-0-0.jpg&amp;imgrefurl=http://www.sciencemuseum.org.uk/on-line/lifecycle/50.asp&amp;usg=___EgyULe2RRdpfwHS6n-C-D33YOM=&amp;h=360&amp;w=360&amp;sz=17&amp;hl=en&amp;start=3&amp;um=1&amp;tbnid=o_1sL9P3jeyQyM:&amp;tbnh=121&amp;tbnw=121&amp;prev=/images%3Fq%3Dhuman%2Bembryo%26hl%3Den%26um%3D1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hyperlink" Target="http://www.google.com/imgres?imgurl=http://www.genetik.uni-koeln.de/groups/Leptin/images_leptin-home/fish_embryo1.jpg&amp;imgrefurl=http://www.genetik.uni-koeln.de/groups/Leptin/lep_res_fish.htm&amp;h=882&amp;w=827&amp;sz=37&amp;tbnid=saN1A83yi4OD0M:&amp;tbnh=232&amp;tbnw=218&amp;prev=/images%3Fq%3Dfish%2Bembryo%2Bpicture&amp;hl=en&amp;usg=__ZXdk6HMIvuWO6kRRbou_0bApsYs=&amp;ei=poCCS7nEGJDssQOEooSCBA&amp;sa=X&amp;oi=image_result&amp;resnum=3&amp;ct=image&amp;ved=0CA4Q9QEwAg" TargetMode="External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hyperlink" Target="http://images.google.com/imgres?imgurl=http://www.sciencemuseum.org.uk/on-line/lifecycle/images/1-2-3-1-5-0-0-0-0-0-0.jpg&amp;imgrefurl=http://www.sciencemuseum.org.uk/on-line/lifecycle/50.asp&amp;usg=___EgyULe2RRdpfwHS6n-C-D33YOM=&amp;h=360&amp;w=360&amp;sz=17&amp;hl=en&amp;start=3&amp;um=1&amp;tbnid=o_1sL9P3jeyQyM:&amp;tbnh=121&amp;tbnw=121&amp;prev=/images%3Fq%3Dhuman%2Bembryo%26hl%3Den%26um%3D1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images.google.com/imgres?imgurl=http://www.sciencemuseum.org.uk/on-line/lifecycle/images/1-2-3-1-5-0-0-0-0-0-0.jpg&amp;imgrefurl=http://www.sciencemuseum.org.uk/on-line/lifecycle/50.asp&amp;usg=___EgyULe2RRdpfwHS6n-C-D33YOM=&amp;h=360&amp;w=360&amp;sz=17&amp;hl=en&amp;start=3&amp;um=1&amp;tbnid=o_1sL9P3jeyQyM:&amp;tbnh=121&amp;tbnw=121&amp;prev=/images%3Fq%3Dhuman%2Bembryo%26hl%3Den%26um%3D1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hyperlink" Target="http://www.google.com/imgres?imgurl=http://www.genetik.uni-koeln.de/groups/Leptin/images_leptin-home/fish_embryo1.jpg&amp;imgrefurl=http://www.genetik.uni-koeln.de/groups/Leptin/lep_res_fish.htm&amp;h=882&amp;w=827&amp;sz=37&amp;tbnid=saN1A83yi4OD0M:&amp;tbnh=232&amp;tbnw=218&amp;prev=/images%3Fq%3Dfish%2Bembryo%2Bpicture&amp;hl=en&amp;usg=__ZXdk6HMIvuWO6kRRbou_0bApsYs=&amp;ei=poCCS7nEGJDssQOEooSCBA&amp;sa=X&amp;oi=image_result&amp;resnum=3&amp;ct=image&amp;ved=0CA4Q9QEwAg" TargetMode="External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hyperlink" Target="http://www.lakeshorepreserve.wisc.edu/insect-images/images/10_1%20monarch%20butterfly_JPG.jpg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Title 2" descr=""/>
          <p:cNvPicPr/>
          <p:nvPr/>
        </p:nvPicPr>
        <p:blipFill>
          <a:blip r:embed="rId1"/>
          <a:stretch/>
        </p:blipFill>
        <p:spPr>
          <a:xfrm>
            <a:off x="1792440" y="-6480"/>
            <a:ext cx="6522840" cy="1914480"/>
          </a:xfrm>
          <a:prstGeom prst="rect">
            <a:avLst/>
          </a:prstGeom>
          <a:ln w="0">
            <a:noFill/>
          </a:ln>
        </p:spPr>
      </p:pic>
      <p:sp>
        <p:nvSpPr>
          <p:cNvPr id="276" name="TextBox 4"/>
          <p:cNvSpPr/>
          <p:nvPr/>
        </p:nvSpPr>
        <p:spPr>
          <a:xfrm>
            <a:off x="2666880" y="1981080"/>
            <a:ext cx="6477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mbryology Challeng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ay cool Adaptation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at’s up with Fossi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s my arm really a w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roof is in the amino aci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5"/>
          <p:cNvSpPr/>
          <p:nvPr/>
        </p:nvSpPr>
        <p:spPr>
          <a:xfrm>
            <a:off x="1523880" y="1295280"/>
            <a:ext cx="632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rbel"/>
              </a:rPr>
              <a:t>Exploring Forms of Evidence for Evolution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Title 1" descr=""/>
          <p:cNvPicPr/>
          <p:nvPr/>
        </p:nvPicPr>
        <p:blipFill>
          <a:blip r:embed="rId1"/>
          <a:stretch/>
        </p:blipFill>
        <p:spPr>
          <a:xfrm>
            <a:off x="603360" y="-42840"/>
            <a:ext cx="8089920" cy="12682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" descr="Uroplatus fimbriatus gecko on Nosy Mangabe (Nosy Mangabe)"/>
          <p:cNvPicPr/>
          <p:nvPr/>
        </p:nvPicPr>
        <p:blipFill>
          <a:blip r:embed="rId2"/>
          <a:stretch/>
        </p:blipFill>
        <p:spPr>
          <a:xfrm>
            <a:off x="2209680" y="1066680"/>
            <a:ext cx="4721400" cy="4038840"/>
          </a:xfrm>
          <a:prstGeom prst="rect">
            <a:avLst/>
          </a:prstGeom>
          <a:ln w="0">
            <a:noFill/>
          </a:ln>
        </p:spPr>
      </p:pic>
      <p:sp>
        <p:nvSpPr>
          <p:cNvPr id="332" name="TextBox 5"/>
          <p:cNvSpPr/>
          <p:nvPr/>
        </p:nvSpPr>
        <p:spPr>
          <a:xfrm>
            <a:off x="990720" y="5867280"/>
            <a:ext cx="7315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An example of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rbel"/>
              </a:rPr>
              <a:t>camouflage </a:t>
            </a: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Gecko on a Nosey Mangabe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6"/>
          <p:cNvSpPr/>
          <p:nvPr/>
        </p:nvSpPr>
        <p:spPr>
          <a:xfrm>
            <a:off x="3886200" y="1752480"/>
            <a:ext cx="1447920" cy="2819520"/>
          </a:xfrm>
          <a:prstGeom prst="ellipse">
            <a:avLst/>
          </a:prstGeom>
          <a:noFill/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5"/>
          <p:cNvSpPr/>
          <p:nvPr/>
        </p:nvSpPr>
        <p:spPr>
          <a:xfrm>
            <a:off x="457200" y="5638680"/>
            <a:ext cx="83818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mouflage:  </a:t>
            </a:r>
            <a:r>
              <a:rPr b="1" i="1" lang="en-US" sz="2400" spc="-1" strike="noStrike">
                <a:solidFill>
                  <a:srgbClr val="ffc000"/>
                </a:solidFill>
                <a:latin typeface="Arial"/>
              </a:rPr>
              <a:t>An adaptation that enables a species to blend in with their surrounding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36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099B6-FB05-4CEE-9E15-9D43A65CCC25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Content Placeholder 4" descr="resistant bacteria"/>
          <p:cNvPicPr/>
          <p:nvPr/>
        </p:nvPicPr>
        <p:blipFill>
          <a:blip r:embed="rId2"/>
          <a:stretch/>
        </p:blipFill>
        <p:spPr>
          <a:xfrm>
            <a:off x="1676520" y="1143000"/>
            <a:ext cx="6350040" cy="190512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533520" y="3124080"/>
            <a:ext cx="8458200" cy="41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mall number of bacteria are resistant to the antibio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ose bacteria survive to reproduce more  antibiotic resistant bac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ly the entire population quickly becomes  antibiotic resi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Title 4" descr=""/>
          <p:cNvPicPr/>
          <p:nvPr/>
        </p:nvPicPr>
        <p:blipFill>
          <a:blip r:embed="rId1"/>
          <a:stretch/>
        </p:blipFill>
        <p:spPr>
          <a:xfrm>
            <a:off x="146160" y="-42840"/>
            <a:ext cx="8851680" cy="1042920"/>
          </a:xfrm>
          <a:prstGeom prst="rect">
            <a:avLst/>
          </a:prstGeom>
          <a:ln w="0">
            <a:noFill/>
          </a:ln>
        </p:spPr>
      </p:pic>
      <p:sp>
        <p:nvSpPr>
          <p:cNvPr id="340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6C198-263A-4FC4-B457-D52B5AD2FD03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6"/>
          <p:cNvSpPr/>
          <p:nvPr/>
        </p:nvSpPr>
        <p:spPr>
          <a:xfrm>
            <a:off x="76320" y="1523880"/>
            <a:ext cx="8610480" cy="69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Fossils provide snapshots of the pa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Fossils show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rbel"/>
              </a:rPr>
              <a:t>transitional structures 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that link present day organisms to early ances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Corbel"/>
              </a:rPr>
              <a:t>Ultimately shows how new species are derived from older 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Title 1" descr=""/>
          <p:cNvPicPr/>
          <p:nvPr/>
        </p:nvPicPr>
        <p:blipFill>
          <a:blip r:embed="rId1"/>
          <a:stretch/>
        </p:blipFill>
        <p:spPr>
          <a:xfrm>
            <a:off x="219240" y="128520"/>
            <a:ext cx="8474040" cy="8049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" descr="File:Archaeopteryx lithographica (Cast of London Specimen)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828800" y="1066680"/>
            <a:ext cx="579132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Title 4" descr=""/>
          <p:cNvPicPr/>
          <p:nvPr/>
        </p:nvPicPr>
        <p:blipFill>
          <a:blip r:embed="rId1"/>
          <a:stretch/>
        </p:blipFill>
        <p:spPr>
          <a:xfrm>
            <a:off x="530280" y="-42840"/>
            <a:ext cx="8163000" cy="1195200"/>
          </a:xfrm>
          <a:prstGeom prst="rect">
            <a:avLst/>
          </a:prstGeom>
          <a:ln w="0">
            <a:noFill/>
          </a:ln>
        </p:spPr>
      </p:pic>
      <p:sp>
        <p:nvSpPr>
          <p:cNvPr id="345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C2959-9625-4D5B-8465-D066378DEF9B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8"/>
          <p:cNvSpPr/>
          <p:nvPr/>
        </p:nvSpPr>
        <p:spPr>
          <a:xfrm>
            <a:off x="228600" y="533412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2f2f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2f2f2"/>
                </a:solidFill>
                <a:latin typeface="Arial"/>
              </a:rPr>
              <a:t>Homologous Structures:  </a:t>
            </a:r>
            <a:r>
              <a:rPr b="0" i="1" lang="en-US" sz="2000" spc="-1" strike="noStrike">
                <a:solidFill>
                  <a:srgbClr val="f2f2f2"/>
                </a:solidFill>
                <a:latin typeface="Arial"/>
              </a:rPr>
              <a:t>Similarities due to inheri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2f2f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2f2f2"/>
                </a:solidFill>
                <a:latin typeface="Arial"/>
              </a:rPr>
              <a:t>Analogous Structures:  </a:t>
            </a:r>
            <a:r>
              <a:rPr b="0" i="1" lang="en-US" sz="2000" spc="-1" strike="noStrike">
                <a:solidFill>
                  <a:srgbClr val="f2f2f2"/>
                </a:solidFill>
                <a:latin typeface="Arial"/>
              </a:rPr>
              <a:t>Similarities due to Convergent Ev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10" descr="Elvis impersonators do not inherit their similarities"/>
          <p:cNvPicPr/>
          <p:nvPr/>
        </p:nvPicPr>
        <p:blipFill>
          <a:blip r:embed="rId2"/>
          <a:stretch/>
        </p:blipFill>
        <p:spPr>
          <a:xfrm>
            <a:off x="1752480" y="1676520"/>
            <a:ext cx="579132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Box 6"/>
          <p:cNvSpPr/>
          <p:nvPr/>
        </p:nvSpPr>
        <p:spPr>
          <a:xfrm>
            <a:off x="228600" y="5410080"/>
            <a:ext cx="86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Corbel"/>
              </a:rPr>
              <a:t>Homologous Structures:  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tructural features that have a similar evolutionary origin (common ancest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4" descr="Fig"/>
          <p:cNvPicPr/>
          <p:nvPr/>
        </p:nvPicPr>
        <p:blipFill>
          <a:blip r:embed="rId1"/>
          <a:stretch/>
        </p:blipFill>
        <p:spPr>
          <a:xfrm>
            <a:off x="1600200" y="304920"/>
            <a:ext cx="6350040" cy="4647960"/>
          </a:xfrm>
          <a:prstGeom prst="rect">
            <a:avLst/>
          </a:prstGeom>
          <a:ln w="0">
            <a:noFill/>
          </a:ln>
        </p:spPr>
      </p:pic>
      <p:sp>
        <p:nvSpPr>
          <p:cNvPr id="350" name="Text Box 7"/>
          <p:cNvSpPr/>
          <p:nvPr/>
        </p:nvSpPr>
        <p:spPr>
          <a:xfrm>
            <a:off x="1600200" y="4191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le Foreli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4724280" y="8380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codile Foreli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8"/>
          <p:cNvSpPr/>
          <p:nvPr/>
        </p:nvSpPr>
        <p:spPr>
          <a:xfrm>
            <a:off x="6484320" y="27432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rd 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54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F31B6-F35A-40F8-864F-D802986C7D8C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6" descr="Tetrapod limbs with bones highlighted"/>
          <p:cNvPicPr/>
          <p:nvPr/>
        </p:nvPicPr>
        <p:blipFill>
          <a:blip r:embed="rId2"/>
          <a:stretch/>
        </p:blipFill>
        <p:spPr>
          <a:xfrm>
            <a:off x="838080" y="1676520"/>
            <a:ext cx="7239240" cy="4800600"/>
          </a:xfrm>
          <a:prstGeom prst="rect">
            <a:avLst/>
          </a:prstGeom>
          <a:ln w="0">
            <a:noFill/>
          </a:ln>
        </p:spPr>
      </p:pic>
      <p:sp>
        <p:nvSpPr>
          <p:cNvPr id="356" name="TextBox 5"/>
          <p:cNvSpPr/>
          <p:nvPr/>
        </p:nvSpPr>
        <p:spPr>
          <a:xfrm>
            <a:off x="1066680" y="49528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6"/>
          <p:cNvSpPr/>
          <p:nvPr/>
        </p:nvSpPr>
        <p:spPr>
          <a:xfrm>
            <a:off x="2666880" y="16765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7"/>
          <p:cNvSpPr/>
          <p:nvPr/>
        </p:nvSpPr>
        <p:spPr>
          <a:xfrm>
            <a:off x="7010280" y="1828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8"/>
          <p:cNvSpPr/>
          <p:nvPr/>
        </p:nvSpPr>
        <p:spPr>
          <a:xfrm>
            <a:off x="7238880" y="50292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Title 4" descr=""/>
          <p:cNvPicPr/>
          <p:nvPr/>
        </p:nvPicPr>
        <p:blipFill>
          <a:blip r:embed="rId1"/>
          <a:stretch/>
        </p:blipFill>
        <p:spPr>
          <a:xfrm>
            <a:off x="298440" y="73080"/>
            <a:ext cx="8699400" cy="1609560"/>
          </a:xfrm>
          <a:prstGeom prst="rect">
            <a:avLst/>
          </a:prstGeom>
          <a:ln w="0">
            <a:noFill/>
          </a:ln>
        </p:spPr>
      </p:pic>
      <p:sp>
        <p:nvSpPr>
          <p:cNvPr id="361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61369-A68D-4C1C-8915-5FADABE15031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6"/>
          <p:cNvSpPr/>
          <p:nvPr/>
        </p:nvSpPr>
        <p:spPr>
          <a:xfrm>
            <a:off x="1066680" y="541008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Analogous structures-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s with different evolutionary origin but are similar 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" descr="SEA GULL"/>
          <p:cNvPicPr/>
          <p:nvPr/>
        </p:nvPicPr>
        <p:blipFill>
          <a:blip r:embed="rId2"/>
          <a:stretch/>
        </p:blipFill>
        <p:spPr>
          <a:xfrm>
            <a:off x="4800600" y="1981080"/>
            <a:ext cx="3616200" cy="27432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8" descr="http://t2.gstatic.com/images?q=tbn:7pROm5ONABAykM:http://student.physics.upenn.edu/~aebrown/biocurious/insect-dorsal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" y="198108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Title 1" descr=""/>
          <p:cNvPicPr/>
          <p:nvPr/>
        </p:nvPicPr>
        <p:blipFill>
          <a:blip r:embed="rId1"/>
          <a:stretch/>
        </p:blipFill>
        <p:spPr>
          <a:xfrm>
            <a:off x="-55440" y="146160"/>
            <a:ext cx="9132840" cy="1268280"/>
          </a:xfrm>
          <a:prstGeom prst="rect">
            <a:avLst/>
          </a:prstGeom>
          <a:ln w="0">
            <a:noFill/>
          </a:ln>
        </p:spPr>
      </p:pic>
      <p:sp>
        <p:nvSpPr>
          <p:cNvPr id="366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7E69D-7E20-4D56-BBAA-50BACC74E2D2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10" descr="This bird pollinates all three flowers, but prefers the long red ones."/>
          <p:cNvPicPr/>
          <p:nvPr/>
        </p:nvPicPr>
        <p:blipFill>
          <a:blip r:embed="rId2"/>
          <a:stretch/>
        </p:blipFill>
        <p:spPr>
          <a:xfrm>
            <a:off x="228600" y="1600200"/>
            <a:ext cx="3276720" cy="210492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10" descr="This bird pollinates all three flowers, but prefers the long red ones."/>
          <p:cNvPicPr/>
          <p:nvPr/>
        </p:nvPicPr>
        <p:blipFill>
          <a:blip r:embed="rId3"/>
          <a:stretch/>
        </p:blipFill>
        <p:spPr>
          <a:xfrm>
            <a:off x="5486400" y="4648320"/>
            <a:ext cx="3276720" cy="2104920"/>
          </a:xfrm>
          <a:prstGeom prst="rect">
            <a:avLst/>
          </a:prstGeom>
          <a:ln w="0">
            <a:noFill/>
          </a:ln>
        </p:spPr>
      </p:pic>
      <p:sp>
        <p:nvSpPr>
          <p:cNvPr id="369" name="TextBox 8"/>
          <p:cNvSpPr/>
          <p:nvPr/>
        </p:nvSpPr>
        <p:spPr>
          <a:xfrm>
            <a:off x="6400800" y="4648320"/>
            <a:ext cx="2362320" cy="70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 the end, different species of flowers will evolve similar traits because they face similar environmental press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10"/>
          <p:cNvSpPr/>
          <p:nvPr/>
        </p:nvSpPr>
        <p:spPr>
          <a:xfrm>
            <a:off x="3352680" y="3200400"/>
            <a:ext cx="2286000" cy="1981080"/>
          </a:xfrm>
          <a:prstGeom prst="ellipse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What will happen over ti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itle 1" descr=""/>
          <p:cNvPicPr/>
          <p:nvPr/>
        </p:nvPicPr>
        <p:blipFill>
          <a:blip r:embed="rId1"/>
          <a:stretch/>
        </p:blipFill>
        <p:spPr>
          <a:xfrm>
            <a:off x="871560" y="146160"/>
            <a:ext cx="8510400" cy="1268280"/>
          </a:xfrm>
          <a:prstGeom prst="rect">
            <a:avLst/>
          </a:prstGeom>
          <a:ln w="0">
            <a:noFill/>
          </a:ln>
        </p:spPr>
      </p:pic>
      <p:sp>
        <p:nvSpPr>
          <p:cNvPr id="372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8A2EC-01D5-4205-9AFB-04EC995DC3CD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2" descr="shark"/>
          <p:cNvPicPr/>
          <p:nvPr/>
        </p:nvPicPr>
        <p:blipFill>
          <a:blip r:embed="rId2"/>
          <a:stretch/>
        </p:blipFill>
        <p:spPr>
          <a:xfrm>
            <a:off x="1219320" y="1905120"/>
            <a:ext cx="2895480" cy="27432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" descr="dolphin"/>
          <p:cNvPicPr/>
          <p:nvPr/>
        </p:nvPicPr>
        <p:blipFill>
          <a:blip r:embed="rId3"/>
          <a:stretch/>
        </p:blipFill>
        <p:spPr>
          <a:xfrm>
            <a:off x="4267080" y="1905120"/>
            <a:ext cx="2819520" cy="27432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5" descr="http://evolution.berkeley.edu/evolibrary/images/dot_clear.gif"/>
          <p:cNvPicPr/>
          <p:nvPr/>
        </p:nvPicPr>
        <p:blipFill>
          <a:blip r:embed="rId4"/>
          <a:stretch/>
        </p:blipFill>
        <p:spPr>
          <a:xfrm>
            <a:off x="0" y="0"/>
            <a:ext cx="19080" cy="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6" name=""/>
          <p:cNvGraphicFramePr/>
          <p:nvPr/>
        </p:nvGraphicFramePr>
        <p:xfrm>
          <a:off x="1219320" y="4724280"/>
          <a:ext cx="5867280" cy="1854360"/>
        </p:xfrm>
        <a:graphic>
          <a:graphicData uri="http://schemas.openxmlformats.org/drawingml/2006/table">
            <a:tbl>
              <a:tblPr/>
              <a:tblGrid>
                <a:gridCol w="2933640"/>
                <a:gridCol w="29336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ha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Dolp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keleton Made of Cartil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keleton of B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Use Gills to Get Oxy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Breathe air - Blowh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Don’t nurse their you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Nurse their you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Do not have ha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Have Ha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Title 1" descr=""/>
          <p:cNvPicPr/>
          <p:nvPr/>
        </p:nvPicPr>
        <p:blipFill>
          <a:blip r:embed="rId1"/>
          <a:stretch/>
        </p:blipFill>
        <p:spPr>
          <a:xfrm>
            <a:off x="225360" y="1852560"/>
            <a:ext cx="8650440" cy="18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78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0F7A0-CD39-4EF1-AF13-84E5770589A3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6" descr="http://t0.gstatic.com/images?q=tbn:-Ssoyr7txtmo1M:http://www.canids.org/gallery/Popup19385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9480" y="3352680"/>
            <a:ext cx="2210040" cy="15242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http://t0.gstatic.com/images?q=tbn:EO7kl49DZnYcTM:http://briefwit.files.wordpress.com/2009/04/red-fox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33520" y="5029200"/>
            <a:ext cx="2286000" cy="1600200"/>
          </a:xfrm>
          <a:prstGeom prst="rect">
            <a:avLst/>
          </a:prstGeom>
          <a:ln w="0">
            <a:noFill/>
          </a:ln>
        </p:spPr>
      </p:pic>
      <p:sp>
        <p:nvSpPr>
          <p:cNvPr id="381" name="TextBox 6"/>
          <p:cNvSpPr/>
          <p:nvPr/>
        </p:nvSpPr>
        <p:spPr>
          <a:xfrm>
            <a:off x="5257800" y="1752480"/>
            <a:ext cx="373392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Convergent evolution: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Unrelated species evolve similar characteristics to adapt to same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7"/>
          <p:cNvSpPr/>
          <p:nvPr/>
        </p:nvSpPr>
        <p:spPr>
          <a:xfrm>
            <a:off x="380880" y="1676520"/>
            <a:ext cx="381024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Divergent ev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Process where 2 or more species become more &amp; more dissimi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10" descr="http://t1.gstatic.com/images?q=tbn:scXVpu3cC8KDfM:http://cactiguide.com/graphics/x_noncacti_euphorbia_600.jpg"/>
          <p:cNvPicPr/>
          <p:nvPr/>
        </p:nvPicPr>
        <p:blipFill>
          <a:blip r:embed="rId6"/>
          <a:stretch/>
        </p:blipFill>
        <p:spPr>
          <a:xfrm>
            <a:off x="5486400" y="3276720"/>
            <a:ext cx="2666880" cy="15238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2" descr="http://t1.gstatic.com/images?q=tbn:r7p90xTmngBZnM:http://farm2.static.flickr.com/1268/980866302_0390d91e12.jpg"/>
          <p:cNvPicPr/>
          <p:nvPr/>
        </p:nvPicPr>
        <p:blipFill>
          <a:blip r:embed="rId7"/>
          <a:stretch/>
        </p:blipFill>
        <p:spPr>
          <a:xfrm>
            <a:off x="5486400" y="4952880"/>
            <a:ext cx="26668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Title 4" descr=""/>
          <p:cNvPicPr/>
          <p:nvPr/>
        </p:nvPicPr>
        <p:blipFill>
          <a:blip r:embed="rId1"/>
          <a:stretch/>
        </p:blipFill>
        <p:spPr>
          <a:xfrm>
            <a:off x="55440" y="353880"/>
            <a:ext cx="8856720" cy="1024200"/>
          </a:xfrm>
          <a:prstGeom prst="rect">
            <a:avLst/>
          </a:prstGeom>
          <a:ln w="0">
            <a:noFill/>
          </a:ln>
        </p:spPr>
      </p:pic>
      <p:sp>
        <p:nvSpPr>
          <p:cNvPr id="386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5F6AB-203F-4D2A-8D1F-8C2D612D0362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6"/>
          <p:cNvSpPr/>
          <p:nvPr/>
        </p:nvSpPr>
        <p:spPr>
          <a:xfrm>
            <a:off x="304920" y="541008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Vestigial structures-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ft-over structures in present day organisms that no longer serves its original purpose but was useful to an ance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2" descr="http://txtwriter.com/Backgrounders/graphics/evolution/page12.jpg"/>
          <p:cNvPicPr/>
          <p:nvPr/>
        </p:nvPicPr>
        <p:blipFill>
          <a:blip r:embed="rId2"/>
          <a:stretch/>
        </p:blipFill>
        <p:spPr>
          <a:xfrm>
            <a:off x="1676520" y="1981080"/>
            <a:ext cx="54100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Title 1" descr=""/>
          <p:cNvPicPr/>
          <p:nvPr/>
        </p:nvPicPr>
        <p:blipFill>
          <a:blip r:embed="rId1"/>
          <a:stretch/>
        </p:blipFill>
        <p:spPr>
          <a:xfrm>
            <a:off x="450720" y="30240"/>
            <a:ext cx="8394840" cy="1877760"/>
          </a:xfrm>
          <a:prstGeom prst="rect">
            <a:avLst/>
          </a:prstGeom>
          <a:ln w="0">
            <a:noFill/>
          </a:ln>
        </p:spPr>
      </p:pic>
      <p:sp>
        <p:nvSpPr>
          <p:cNvPr id="390" name="TextBox 3"/>
          <p:cNvSpPr/>
          <p:nvPr/>
        </p:nvSpPr>
        <p:spPr>
          <a:xfrm>
            <a:off x="228600" y="1371600"/>
            <a:ext cx="86868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f2f2f2"/>
                </a:solidFill>
                <a:latin typeface="Corbel"/>
              </a:rPr>
              <a:t>Most Reliable source of evidence for 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2f2f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2f2f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orbel"/>
              </a:rPr>
              <a:t>  </a:t>
            </a:r>
            <a:r>
              <a:rPr b="0" lang="en-US" sz="3200" spc="-1" strike="noStrike">
                <a:solidFill>
                  <a:srgbClr val="f2f2f2"/>
                </a:solidFill>
                <a:latin typeface="Corbel"/>
              </a:rPr>
              <a:t>Similar  DNA, RNA &amp; biochemicals are shared among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2f2f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orbel"/>
              </a:rPr>
              <a:t> </a:t>
            </a:r>
            <a:r>
              <a:rPr b="1" lang="en-US" sz="3200" spc="-1" strike="noStrike">
                <a:solidFill>
                  <a:srgbClr val="ffc000"/>
                </a:solidFill>
                <a:latin typeface="Corbel"/>
              </a:rPr>
              <a:t>More shared biochemicals = More recently shared common ances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Title 1" descr=""/>
          <p:cNvPicPr/>
          <p:nvPr/>
        </p:nvPicPr>
        <p:blipFill>
          <a:blip r:embed="rId1"/>
          <a:stretch/>
        </p:blipFill>
        <p:spPr>
          <a:xfrm>
            <a:off x="603360" y="1805040"/>
            <a:ext cx="808992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Title 3" descr=""/>
          <p:cNvPicPr/>
          <p:nvPr/>
        </p:nvPicPr>
        <p:blipFill>
          <a:blip r:embed="rId1"/>
          <a:stretch/>
        </p:blipFill>
        <p:spPr>
          <a:xfrm>
            <a:off x="622440" y="1584360"/>
            <a:ext cx="824688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Title 3" descr=""/>
          <p:cNvPicPr/>
          <p:nvPr/>
        </p:nvPicPr>
        <p:blipFill>
          <a:blip r:embed="rId1"/>
          <a:stretch/>
        </p:blipFill>
        <p:spPr>
          <a:xfrm>
            <a:off x="450720" y="30240"/>
            <a:ext cx="8089920" cy="11952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2" descr="http://t0.gstatic.com/images?q=tbn:o_1sL9P3jeyQyM:http://www.sciencemuseum.org.uk/on-line/lifecycle/images/1-2-3-1-5-0-0-0-0-0-0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05520" y="1523880"/>
            <a:ext cx="1382760" cy="2057400"/>
          </a:xfrm>
          <a:prstGeom prst="rect">
            <a:avLst/>
          </a:prstGeom>
          <a:ln w="0">
            <a:noFill/>
          </a:ln>
        </p:spPr>
      </p:pic>
      <p:sp>
        <p:nvSpPr>
          <p:cNvPr id="282" name="TextBox 6"/>
          <p:cNvSpPr/>
          <p:nvPr/>
        </p:nvSpPr>
        <p:spPr>
          <a:xfrm>
            <a:off x="457200" y="3429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Hu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8"/>
          <p:cNvSpPr/>
          <p:nvPr/>
        </p:nvSpPr>
        <p:spPr>
          <a:xfrm>
            <a:off x="2362320" y="34290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P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0" descr="http://www.talkorigins.org/faqs/comdesc/images/dolphin_embryo.jpg"/>
          <p:cNvPicPr/>
          <p:nvPr/>
        </p:nvPicPr>
        <p:blipFill>
          <a:blip r:embed="rId4"/>
          <a:stretch/>
        </p:blipFill>
        <p:spPr>
          <a:xfrm>
            <a:off x="3200400" y="1600200"/>
            <a:ext cx="1343160" cy="19051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2" descr="http://embryology.med.unsw.edu.au/movies/pig.gif"/>
          <p:cNvPicPr/>
          <p:nvPr/>
        </p:nvPicPr>
        <p:blipFill>
          <a:blip r:embed="rId5"/>
          <a:stretch/>
        </p:blipFill>
        <p:spPr>
          <a:xfrm>
            <a:off x="7010280" y="1676520"/>
            <a:ext cx="1371600" cy="16761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5" descr="http://www.microscopy-uk.org.uk/mag/imgnov04macro/comp1.jpg"/>
          <p:cNvPicPr/>
          <p:nvPr/>
        </p:nvPicPr>
        <p:blipFill>
          <a:blip r:embed="rId6"/>
          <a:stretch/>
        </p:blipFill>
        <p:spPr>
          <a:xfrm>
            <a:off x="0" y="1219320"/>
            <a:ext cx="2971800" cy="259056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17"/>
          <p:cNvSpPr/>
          <p:nvPr/>
        </p:nvSpPr>
        <p:spPr>
          <a:xfrm>
            <a:off x="0" y="1219320"/>
            <a:ext cx="1066680" cy="2361960"/>
          </a:xfrm>
          <a:prstGeom prst="rect">
            <a:avLst/>
          </a:prstGeom>
          <a:solidFill>
            <a:srgbClr val="000000"/>
          </a:solidFill>
          <a:ln w="47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3"/>
          <p:cNvSpPr/>
          <p:nvPr/>
        </p:nvSpPr>
        <p:spPr>
          <a:xfrm>
            <a:off x="380880" y="548640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Choices:     Pig       Human      Chicken       Dolph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14"/>
          <p:cNvSpPr/>
          <p:nvPr/>
        </p:nvSpPr>
        <p:spPr>
          <a:xfrm>
            <a:off x="2057400" y="38862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16"/>
          <p:cNvSpPr/>
          <p:nvPr/>
        </p:nvSpPr>
        <p:spPr>
          <a:xfrm>
            <a:off x="3657600" y="3886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21"/>
          <p:cNvSpPr/>
          <p:nvPr/>
        </p:nvSpPr>
        <p:spPr>
          <a:xfrm>
            <a:off x="5410080" y="3886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22"/>
          <p:cNvSpPr/>
          <p:nvPr/>
        </p:nvSpPr>
        <p:spPr>
          <a:xfrm>
            <a:off x="7315200" y="3886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14"/>
          <p:cNvSpPr/>
          <p:nvPr/>
        </p:nvSpPr>
        <p:spPr>
          <a:xfrm>
            <a:off x="228600" y="54864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r Choices:        Human, Pig, Dolphin, Chicken, Fish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16" descr="http://www.google.com/images?q=tbn:saN1A83yi4OD0M::www.genetik.uni-koeln.de/groups/Leptin/images_leptin-home/fish_embryo1.jpg&amp;t=1&amp;h=196&amp;w=183&amp;usg=__ZeyKF4AUZLIVcCzn8bzmi1mq1WA=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52280" y="1676520"/>
            <a:ext cx="1371600" cy="1866960"/>
          </a:xfrm>
          <a:prstGeom prst="rect">
            <a:avLst/>
          </a:prstGeom>
          <a:ln w="0">
            <a:noFill/>
          </a:ln>
        </p:spPr>
      </p:pic>
      <p:sp>
        <p:nvSpPr>
          <p:cNvPr id="295" name="TextBox 16"/>
          <p:cNvSpPr/>
          <p:nvPr/>
        </p:nvSpPr>
        <p:spPr>
          <a:xfrm>
            <a:off x="609480" y="38862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Title 1" descr=""/>
          <p:cNvPicPr/>
          <p:nvPr/>
        </p:nvPicPr>
        <p:blipFill>
          <a:blip r:embed="rId1"/>
          <a:stretch/>
        </p:blipFill>
        <p:spPr>
          <a:xfrm>
            <a:off x="1311120" y="30240"/>
            <a:ext cx="8375760" cy="1877760"/>
          </a:xfrm>
          <a:prstGeom prst="rect">
            <a:avLst/>
          </a:prstGeom>
          <a:ln w="0">
            <a:noFill/>
          </a:ln>
        </p:spPr>
      </p:pic>
      <p:sp>
        <p:nvSpPr>
          <p:cNvPr id="297" name="TextBox 3"/>
          <p:cNvSpPr/>
          <p:nvPr/>
        </p:nvSpPr>
        <p:spPr>
          <a:xfrm>
            <a:off x="762120" y="1676520"/>
            <a:ext cx="8076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Corbe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What are some of the similarities you notic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What are some of the differen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What does this has to do with evolu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12" descr="http://embryology.med.unsw.edu.au/movies/pig.gif"/>
          <p:cNvPicPr/>
          <p:nvPr/>
        </p:nvPicPr>
        <p:blipFill>
          <a:blip r:embed="rId2"/>
          <a:stretch/>
        </p:blipFill>
        <p:spPr>
          <a:xfrm>
            <a:off x="6934320" y="5181480"/>
            <a:ext cx="1371600" cy="16765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2" descr="http://t0.gstatic.com/images?q=tbn:o_1sL9P3jeyQyM:http://www.sciencemuseum.org.uk/on-line/lifecycle/images/1-2-3-1-5-0-0-0-0-0-0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52880" y="5181480"/>
            <a:ext cx="1382760" cy="16765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0" descr="http://www.talkorigins.org/faqs/comdesc/images/dolphin_embryo.jpg"/>
          <p:cNvPicPr/>
          <p:nvPr/>
        </p:nvPicPr>
        <p:blipFill>
          <a:blip r:embed="rId5"/>
          <a:stretch/>
        </p:blipFill>
        <p:spPr>
          <a:xfrm>
            <a:off x="2971800" y="5181480"/>
            <a:ext cx="1343160" cy="16765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7" descr="http://www.microscopy-uk.org.uk/mag/imgnov04macro/comp1.jpg"/>
          <p:cNvPicPr/>
          <p:nvPr/>
        </p:nvPicPr>
        <p:blipFill>
          <a:blip r:embed="rId6"/>
          <a:stretch/>
        </p:blipFill>
        <p:spPr>
          <a:xfrm>
            <a:off x="304920" y="5181480"/>
            <a:ext cx="2057400" cy="167652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8"/>
          <p:cNvSpPr/>
          <p:nvPr/>
        </p:nvSpPr>
        <p:spPr>
          <a:xfrm>
            <a:off x="0" y="5181480"/>
            <a:ext cx="1295280" cy="1676520"/>
          </a:xfrm>
          <a:prstGeom prst="rect">
            <a:avLst/>
          </a:prstGeom>
          <a:solidFill>
            <a:srgbClr val="434a5a"/>
          </a:solidFill>
          <a:ln w="47880">
            <a:solidFill>
              <a:srgbClr val="434a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3" descr=""/>
          <p:cNvPicPr/>
          <p:nvPr/>
        </p:nvPicPr>
        <p:blipFill>
          <a:blip r:embed="rId1"/>
          <a:stretch/>
        </p:blipFill>
        <p:spPr>
          <a:xfrm>
            <a:off x="133200" y="49320"/>
            <a:ext cx="8686800" cy="11761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" descr="http://t0.gstatic.com/images?q=tbn:o_1sL9P3jeyQyM:http://www.sciencemuseum.org.uk/on-line/lifecycle/images/1-2-3-1-5-0-0-0-0-0-0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05520" y="1523880"/>
            <a:ext cx="1382760" cy="2057400"/>
          </a:xfrm>
          <a:prstGeom prst="rect">
            <a:avLst/>
          </a:prstGeom>
          <a:ln w="0">
            <a:noFill/>
          </a:ln>
        </p:spPr>
      </p:pic>
      <p:sp>
        <p:nvSpPr>
          <p:cNvPr id="305" name="TextBox 6"/>
          <p:cNvSpPr/>
          <p:nvPr/>
        </p:nvSpPr>
        <p:spPr>
          <a:xfrm>
            <a:off x="457200" y="3429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Hu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8"/>
          <p:cNvSpPr/>
          <p:nvPr/>
        </p:nvSpPr>
        <p:spPr>
          <a:xfrm>
            <a:off x="2362320" y="34290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P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10" descr="http://www.talkorigins.org/faqs/comdesc/images/dolphin_embryo.jpg"/>
          <p:cNvPicPr/>
          <p:nvPr/>
        </p:nvPicPr>
        <p:blipFill>
          <a:blip r:embed="rId4"/>
          <a:stretch/>
        </p:blipFill>
        <p:spPr>
          <a:xfrm>
            <a:off x="3200400" y="1600200"/>
            <a:ext cx="1343160" cy="1905120"/>
          </a:xfrm>
          <a:prstGeom prst="rect">
            <a:avLst/>
          </a:prstGeom>
          <a:ln w="0">
            <a:noFill/>
          </a:ln>
        </p:spPr>
      </p:pic>
      <p:sp>
        <p:nvSpPr>
          <p:cNvPr id="308" name="TextBox 12"/>
          <p:cNvSpPr/>
          <p:nvPr/>
        </p:nvSpPr>
        <p:spPr>
          <a:xfrm>
            <a:off x="3429000" y="388620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Dolph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12" descr="http://embryology.med.unsw.edu.au/movies/pig.gif"/>
          <p:cNvPicPr/>
          <p:nvPr/>
        </p:nvPicPr>
        <p:blipFill>
          <a:blip r:embed="rId5"/>
          <a:stretch/>
        </p:blipFill>
        <p:spPr>
          <a:xfrm>
            <a:off x="7010280" y="1676520"/>
            <a:ext cx="1371600" cy="16761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5" descr="http://www.microscopy-uk.org.uk/mag/imgnov04macro/comp1.jpg"/>
          <p:cNvPicPr/>
          <p:nvPr/>
        </p:nvPicPr>
        <p:blipFill>
          <a:blip r:embed="rId6"/>
          <a:stretch/>
        </p:blipFill>
        <p:spPr>
          <a:xfrm>
            <a:off x="0" y="1295280"/>
            <a:ext cx="2971800" cy="259092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17"/>
          <p:cNvSpPr/>
          <p:nvPr/>
        </p:nvSpPr>
        <p:spPr>
          <a:xfrm>
            <a:off x="0" y="1219320"/>
            <a:ext cx="1066680" cy="2361960"/>
          </a:xfrm>
          <a:prstGeom prst="rect">
            <a:avLst/>
          </a:prstGeom>
          <a:solidFill>
            <a:srgbClr val="000000"/>
          </a:solidFill>
          <a:ln w="47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18"/>
          <p:cNvSpPr/>
          <p:nvPr/>
        </p:nvSpPr>
        <p:spPr>
          <a:xfrm>
            <a:off x="7315200" y="38862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P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19"/>
          <p:cNvSpPr/>
          <p:nvPr/>
        </p:nvSpPr>
        <p:spPr>
          <a:xfrm>
            <a:off x="1676520" y="388620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Chic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20"/>
          <p:cNvSpPr/>
          <p:nvPr/>
        </p:nvSpPr>
        <p:spPr>
          <a:xfrm>
            <a:off x="5334120" y="38862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Hu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16" descr="http://www.google.com/images?q=tbn:saN1A83yi4OD0M::www.genetik.uni-koeln.de/groups/Leptin/images_leptin-home/fish_embryo1.jpg&amp;t=1&amp;h=196&amp;w=183&amp;usg=__ZeyKF4AUZLIVcCzn8bzmi1mq1WA=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52280" y="1676520"/>
            <a:ext cx="1371600" cy="1866960"/>
          </a:xfrm>
          <a:prstGeom prst="rect">
            <a:avLst/>
          </a:prstGeom>
          <a:ln w="0">
            <a:noFill/>
          </a:ln>
        </p:spPr>
      </p:pic>
      <p:sp>
        <p:nvSpPr>
          <p:cNvPr id="316" name="TextBox 14"/>
          <p:cNvSpPr/>
          <p:nvPr/>
        </p:nvSpPr>
        <p:spPr>
          <a:xfrm>
            <a:off x="457200" y="3886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15"/>
          <p:cNvSpPr/>
          <p:nvPr/>
        </p:nvSpPr>
        <p:spPr>
          <a:xfrm>
            <a:off x="990720" y="556272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Arial"/>
              </a:rPr>
              <a:t>Pharyngeal pou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Title 3" descr=""/>
          <p:cNvPicPr/>
          <p:nvPr/>
        </p:nvPicPr>
        <p:blipFill>
          <a:blip r:embed="rId1"/>
          <a:stretch/>
        </p:blipFill>
        <p:spPr>
          <a:xfrm>
            <a:off x="603360" y="30240"/>
            <a:ext cx="8089920" cy="1347840"/>
          </a:xfrm>
          <a:prstGeom prst="rect">
            <a:avLst/>
          </a:prstGeom>
          <a:ln w="0">
            <a:noFill/>
          </a:ln>
        </p:spPr>
      </p:pic>
      <p:sp>
        <p:nvSpPr>
          <p:cNvPr id="319" name="TextBox 5"/>
          <p:cNvSpPr/>
          <p:nvPr/>
        </p:nvSpPr>
        <p:spPr>
          <a:xfrm>
            <a:off x="457200" y="1409760"/>
            <a:ext cx="8381880" cy="70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At early development, many organisms look very simi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Certain Structures look identical as an embryo but become specialized structures as an adult  (</a:t>
            </a:r>
            <a:r>
              <a:rPr b="1" i="1" lang="en-US" sz="2800" spc="-1" strike="noStrike">
                <a:solidFill>
                  <a:srgbClr val="000000"/>
                </a:solidFill>
                <a:latin typeface="Corbel"/>
              </a:rPr>
              <a:t>Pharyngeal gill slits</a:t>
            </a: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Corbel"/>
              </a:rPr>
              <a:t>This suggests:    </a:t>
            </a:r>
            <a:r>
              <a:rPr b="1" lang="en-US" sz="2800" spc="-1" strike="noStrike">
                <a:solidFill>
                  <a:srgbClr val="ffc000"/>
                </a:solidFill>
                <a:latin typeface="Corbel"/>
              </a:rPr>
              <a:t>Species evolved from a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Corbel"/>
              </a:rPr>
              <a:t>Common</a:t>
            </a:r>
            <a:r>
              <a:rPr b="1" lang="en-US" sz="2800" spc="-1" strike="noStrike">
                <a:solidFill>
                  <a:srgbClr val="ffc000"/>
                </a:solidFill>
                <a:latin typeface="Corbel"/>
              </a:rPr>
              <a:t>, distant ances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Title 3" descr=""/>
          <p:cNvPicPr/>
          <p:nvPr/>
        </p:nvPicPr>
        <p:blipFill>
          <a:blip r:embed="rId1"/>
          <a:stretch/>
        </p:blipFill>
        <p:spPr>
          <a:xfrm>
            <a:off x="378000" y="-42840"/>
            <a:ext cx="8089560" cy="1195200"/>
          </a:xfrm>
          <a:prstGeom prst="rect">
            <a:avLst/>
          </a:prstGeom>
          <a:ln w="0">
            <a:noFill/>
          </a:ln>
        </p:spPr>
      </p:pic>
      <p:pic>
        <p:nvPicPr>
          <p:cNvPr id="321" name="TextBox 5" descr=""/>
          <p:cNvPicPr/>
          <p:nvPr/>
        </p:nvPicPr>
        <p:blipFill>
          <a:blip r:embed="rId2"/>
          <a:stretch/>
        </p:blipFill>
        <p:spPr>
          <a:xfrm>
            <a:off x="23760" y="1238400"/>
            <a:ext cx="874872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450720" y="-42840"/>
            <a:ext cx="8089920" cy="18781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" descr="http://home.cogeco.ca/~lunker/but021.gif"/>
          <p:cNvPicPr/>
          <p:nvPr/>
        </p:nvPicPr>
        <p:blipFill>
          <a:blip r:embed="rId2"/>
          <a:stretch/>
        </p:blipFill>
        <p:spPr>
          <a:xfrm>
            <a:off x="228600" y="1523880"/>
            <a:ext cx="3962520" cy="31212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4" descr="http://www.lakeshorepreserve.wisc.edu/insect-images/images/10_1%20monarch%20butterfly_JPG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43400" y="1557360"/>
            <a:ext cx="4267080" cy="3085920"/>
          </a:xfrm>
          <a:prstGeom prst="rect">
            <a:avLst/>
          </a:prstGeom>
          <a:ln w="0">
            <a:noFill/>
          </a:ln>
        </p:spPr>
      </p:pic>
      <p:sp>
        <p:nvSpPr>
          <p:cNvPr id="325" name="TextBox 13"/>
          <p:cNvSpPr/>
          <p:nvPr/>
        </p:nvSpPr>
        <p:spPr>
          <a:xfrm>
            <a:off x="1219320" y="4724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Vicer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14"/>
          <p:cNvSpPr/>
          <p:nvPr/>
        </p:nvSpPr>
        <p:spPr>
          <a:xfrm>
            <a:off x="6095880" y="4724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Mon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6"/>
          <p:cNvSpPr/>
          <p:nvPr/>
        </p:nvSpPr>
        <p:spPr>
          <a:xfrm>
            <a:off x="4495680" y="1600200"/>
            <a:ext cx="3962520" cy="3048120"/>
          </a:xfrm>
          <a:prstGeom prst="ellipse">
            <a:avLst/>
          </a:prstGeom>
          <a:noFill/>
          <a:ln w="47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7"/>
          <p:cNvSpPr/>
          <p:nvPr/>
        </p:nvSpPr>
        <p:spPr>
          <a:xfrm>
            <a:off x="3276720" y="5638680"/>
            <a:ext cx="58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Example of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rbel"/>
              </a:rPr>
              <a:t>Mimicry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8"/>
          <p:cNvSpPr/>
          <p:nvPr/>
        </p:nvSpPr>
        <p:spPr>
          <a:xfrm>
            <a:off x="609480" y="5638680"/>
            <a:ext cx="8305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micry:  </a:t>
            </a:r>
            <a:r>
              <a:rPr b="0" i="1" lang="en-US" sz="2400" spc="-1" strike="noStrike">
                <a:solidFill>
                  <a:srgbClr val="ffc000"/>
                </a:solidFill>
                <a:latin typeface="Arial"/>
              </a:rPr>
              <a:t>A structural adaptation that enables one species to resemble another spec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17:45:10Z</dcterms:created>
  <dc:creator>cce</dc:creator>
  <dc:description/>
  <dc:language>en-US</dc:language>
  <cp:lastModifiedBy>Ashley_Borden</cp:lastModifiedBy>
  <dcterms:modified xsi:type="dcterms:W3CDTF">2010-02-23T13:08:51Z</dcterms:modified>
  <cp:revision>59</cp:revision>
  <dc:subject/>
  <dc:title>EVIDENCE FOR EVOLUTION</dc:title>
</cp:coreProperties>
</file>